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583B6-15FB-4C66-B4D9-FC61975C0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D471A-905E-45E3-A54D-1E119559A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88802-5A29-41B4-8B06-B247959FF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1D192A-51EA-47C8-93BA-D244F31511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A5ECA-6166-44EC-BA72-2A90B8797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BCB31-9226-4842-BDCF-EF221C45F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2B9AC-592C-4CDD-83C5-82136F5E2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69901-CC4D-438C-A403-2A5593733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F3B17-90CF-4BBD-A34C-99B55C2D5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51B6A-BBFE-41DF-BC3F-19D7189EA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0A380-4A96-4271-9470-2A4651A86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EF284-9F99-4B32-840E-649DA4B094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2D610-DAFD-48F6-A8D7-09491B4F0E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bs.com.au/gold/" TargetMode="External"/><Relationship Id="rId3" Type="http://schemas.openxmlformats.org/officeDocument/2006/relationships/hyperlink" Target="http://en.wikipedia.org/wiki/Main_Page" TargetMode="External"/><Relationship Id="rId4" Type="http://schemas.openxmlformats.org/officeDocument/2006/relationships/hyperlink" Target="http://www.cap.nsw.edu.au/bb_site_intro/stage2_modules/bushrangers/bushrangers.htm" TargetMode="External"/><Relationship Id="rId5" Type="http://schemas.openxmlformats.org/officeDocument/2006/relationships/hyperlink" Target="http://www.wilmap.com.au/bushrangers.html" TargetMode="External"/><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au/imgres?imgurl=http://upload.wikimedia.org/wikipedia/commons/3/37/Ben_Hall_Bushranger.jpg&amp;imgrefurl=http://commons.wikimedia.org/wiki/File:Ben_Hall_Bushranger.jpg&amp;usg=__2T1KwB9R1L5B9M-we1etlXbAhEs=&amp;h=735&amp;w=600&amp;sz=82&amp;hl=en&amp;start=1&amp;zoom=1&amp;itbs=1&amp;tbnid=l4pgY3MjN2SyrM:&amp;tbnh=141&amp;tbnw=115&amp;prev=/images%3Fq%3Dbushranger%26hl%3Den%26safe%3Dactive%26gbv%3D2%26tbs%3Disch:1" TargetMode="External"/><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c100d0"/>
                </a:solidFill>
                <a:latin typeface="Comic Sans MS"/>
              </a:rPr>
              <a:t>Bushrangers on the Goldfield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y:</a:t>
            </a:r>
            <a:r>
              <a:rPr b="0" lang="en-AU" sz="3200" spc="-1" strike="noStrike">
                <a:solidFill>
                  <a:srgbClr val="c100d0"/>
                </a:solidFill>
                <a:latin typeface="Arial"/>
              </a:rPr>
              <a:t> </a:t>
            </a:r>
            <a:r>
              <a:rPr b="0" lang="en-AU" sz="3200" spc="-1" strike="noStrike">
                <a:solidFill>
                  <a:srgbClr val="000000"/>
                </a:solidFill>
                <a:latin typeface="Arial"/>
              </a:rPr>
              <a:t>Joseph Luu 5 Gold 2010</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omic Sans MS"/>
              </a:rPr>
              <a:t>Captain Midnight (Thomas Smith)</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aptain Midnight began his criminal life when he was sentences to jail for 5 years for thieving catt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e escaped 1 year later and started his own gang, but soon he found himself locked up again but this time for 6 and a half ye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e died when he was back to prison.</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Bibliography </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www.sbs.com.au/go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http://en.wikipedia.org/wiki/Main_P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http://www.cap.nsw.edu.au/bb_site_intro/stage2_modules/bushrangers/bushrangers.ht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5"/>
              </a:rPr>
              <a:t>http://www.wilmap.com.au/bushrangers.htm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 for watch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guess this is the end of my gold pro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a:hlinkClick r:id="rId2"/>
          </p:cNvPr>
          <p:cNvPicPr/>
          <p:nvPr/>
        </p:nvPicPr>
        <p:blipFill>
          <a:blip r:embed="rId3"/>
          <a:stretch/>
        </p:blipFill>
        <p:spPr>
          <a:xfrm>
            <a:off x="228600" y="3429000"/>
            <a:ext cx="2549520" cy="3124080"/>
          </a:xfrm>
          <a:prstGeom prst="rect">
            <a:avLst/>
          </a:prstGeom>
          <a:ln w="0">
            <a:noFill/>
          </a:ln>
        </p:spPr>
      </p:pic>
      <p:pic>
        <p:nvPicPr>
          <p:cNvPr id="71" name="" descr=""/>
          <p:cNvPicPr/>
          <p:nvPr/>
        </p:nvPicPr>
        <p:blipFill>
          <a:blip r:embed="rId4"/>
          <a:stretch/>
        </p:blipFill>
        <p:spPr>
          <a:xfrm>
            <a:off x="6172200" y="3352680"/>
            <a:ext cx="2502000" cy="307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omic Sans MS"/>
              </a:rPr>
              <a:t>What are Bushrangers?</a:t>
            </a:r>
            <a:r>
              <a:rPr b="0" lang="en-AU" sz="4400" spc="-1" strike="noStrike">
                <a:solidFill>
                  <a:srgbClr val="000000"/>
                </a:solidFill>
                <a:latin typeface="Arial Black"/>
              </a:rPr>
              <a:t>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ushrangers are thieves and convicts who are against the law, robbing small town banks or coach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ushrangers are people that wanted revenge on the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ushrangers are also called the Old West Outlaw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omic Sans MS"/>
              </a:rPr>
              <a:t>What did bushrangers do?</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ushrangers ambush and kill people who have a variety of rare items that can be stol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ushrangers use weapons to ambush and kill diggers and miners that have gol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omic Sans MS"/>
              </a:rPr>
              <a:t>What Weapons did they us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ssault Rif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nip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isto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evolv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harp Rifl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Kniv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ocket Colt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2"/>
          <a:stretch/>
        </p:blipFill>
        <p:spPr>
          <a:xfrm>
            <a:off x="4876920" y="1523880"/>
            <a:ext cx="3429000" cy="2186280"/>
          </a:xfrm>
          <a:prstGeom prst="rect">
            <a:avLst/>
          </a:prstGeom>
          <a:ln w="0">
            <a:noFill/>
          </a:ln>
        </p:spPr>
      </p:pic>
      <p:sp>
        <p:nvSpPr>
          <p:cNvPr id="50"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sp>
        <p:nvSpPr>
          <p:cNvPr id="51"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pic>
        <p:nvPicPr>
          <p:cNvPr id="52" name="" descr=""/>
          <p:cNvPicPr/>
          <p:nvPr/>
        </p:nvPicPr>
        <p:blipFill>
          <a:blip r:embed="rId3"/>
          <a:stretch/>
        </p:blipFill>
        <p:spPr>
          <a:xfrm>
            <a:off x="4800600" y="4064040"/>
            <a:ext cx="3581280" cy="239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omic Sans MS"/>
              </a:rPr>
              <a:t>What Did Bushrangers Wear?</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ushrangers had Beards and Old Boo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ick t’s and Trous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ats, Vests and Hols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ushrangers normally wear old brown cloth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
          <p:cNvPicPr/>
          <p:nvPr/>
        </p:nvPicPr>
        <p:blipFill>
          <a:blip r:embed="rId2"/>
          <a:stretch/>
        </p:blipFill>
        <p:spPr>
          <a:xfrm>
            <a:off x="6019920" y="4051440"/>
            <a:ext cx="2819160" cy="2577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omic Sans MS"/>
              </a:rPr>
              <a:t>Were the bushrangers involved in the Eureka Stockade?</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ome bushrangers were involved in the Eureka Stockade because they knew there gold there and so they decided to steal some and rob them from the governor. Bushrangers ambush people that walk around the bushes with gold then they strike and kill the person and steal their go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omic Sans MS"/>
              </a:rPr>
              <a:t>Here are some bushrangers</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Ned Kell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lexander Pear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enjamin Hal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Mad Dog Morga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Frank Gardin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aptain Midnigh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aptain Thunderbol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aptain Moonligh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omic Sans MS"/>
              </a:rPr>
              <a:t>Ned Kelly</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ne 1854 – 11 November 188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orn in Victo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Ned Kelly wore Metal Arm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Ned Kelly worked with a group called the Kelly Ga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Ned Kelly was a bushranger but then became an outla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e was born in an old Irish fami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omic Sans MS"/>
              </a:rPr>
              <a:t>Mad Dog Morgan ( John Fuller)</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Mad Dog Morgan became a bushranger when he was 30 years old from 1863 to 186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Mad Dog Morgan was one of the most vicious and callous bushrangers in Australian Hist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is career ended when he was shot by some station employe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9T03:18:43Z</dcterms:created>
  <dc:creator>joseph_luu</dc:creator>
  <dc:description/>
  <dc:language>en-US</dc:language>
  <cp:lastModifiedBy>joseph_luu</cp:lastModifiedBy>
  <dcterms:modified xsi:type="dcterms:W3CDTF">2010-09-15T04:50:50Z</dcterms:modified>
  <cp:revision>11</cp:revision>
  <dc:subject/>
  <dc:title>Slide 1</dc:title>
</cp:coreProperties>
</file>